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923088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9228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8"/>
          </p:nvPr>
        </p:nvSpPr>
        <p:spPr>
          <a:xfrm>
            <a:off x="392112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9"/>
          </p:nvPr>
        </p:nvSpPr>
        <p:spPr>
          <a:xfrm>
            <a:off x="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0"/>
          </p:nvPr>
        </p:nvSpPr>
        <p:spPr>
          <a:xfrm>
            <a:off x="392112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4F87-5138-4878-92CB-A11F5AEF45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03AB-C718-4FDE-BC38-B1F0F260D3C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9101-0F34-49B2-8A1C-1EACF824847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29EB-E393-40B7-AF35-7F94A0B83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4186-725D-46DA-BFD8-720B74835B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A51A5-5A41-4665-BFB3-05F12357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C588C-A1FC-4EE3-B62F-48E87F34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CD171-8158-49FE-8D20-5D784047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91F3C-BCB4-423C-924F-9D66702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F6B9F-B172-4EB8-A539-8E23B91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45D5A-FDB3-4735-8603-2EFC20DE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C5979-626C-493D-899C-BB8B5408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25895-C9B2-4AA2-BA0A-666AFD13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BA191-FE58-4D80-ABCC-CF01E0B9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7B6EB-FA5B-4601-BAB4-F2524841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4271-56F5-460F-876C-85DFD84445F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1D33C-A142-43FE-A02D-303F6EC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77FA4-19F8-43E4-9B5E-0CB35799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3994A-EFA4-4C52-9A27-4F0BC44F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327A8-291C-4D16-96E4-B541153F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869C8-7C8B-4FFF-8F21-35FCE7FF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13BC6-3C33-451D-AD45-A0525A3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60219-2B75-47C9-BFD0-717A1E8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94F40-9CC4-4615-9136-883C0EB2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41A87-81F7-4641-B8EB-1FA9594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E2BD8-69ED-4694-9F2D-1899A075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BD51-DBBE-45AC-AA78-4343E61DD30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3F4C1-7A56-4E1D-AF27-860E0537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B1D8BA-CCA1-4AEA-9560-D8964E20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08F066-2D7F-4E6C-B7DB-9FB23907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7DE097-9EE2-4C83-AF5B-CDF1C8F7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8C0E5A-6378-4DA8-859A-21BCE1D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F4B4FC-D531-45DA-BEE1-7D04C3C9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A408A2-1F06-4F56-B69A-C113E143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528DC2-162A-41C7-9427-674A6E1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83E854-895B-424B-B446-2A7B004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C2754C-F622-46C7-9448-09F904B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9B3A3-E551-409C-B9AD-A82C16BC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9BD466-161A-4F37-BE09-33B57CAF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3AB6C8-4968-4362-9E95-A0B6C342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4BA351-241B-4B5E-BF6D-B63F300C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5BBC7-9124-420E-9ACA-EDF6D5CB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DE4CA-279D-4681-8A96-71E59DBE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A7803-8D89-4015-A6D7-6678AA06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45EAD-F7E2-41F2-AB83-7F697112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DAC88-331A-41EE-BE8D-D536C516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4AC5C-9F18-4228-922E-FF410D7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F95A5-CC57-4B54-910E-654F430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EDB9B-6119-4CF4-A973-A9AA1D0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862C6-16B4-47A3-9EC0-DC65D0B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EB94A-CD9D-4786-8956-9CF5181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6F8ED-8313-42A2-91C4-D12110B2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E488C-E3FC-46CE-B4D6-AA28DFC5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56B6C-BCB7-407C-8410-C312A6F6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968E0A-3D27-4A37-BE7A-28FA9C3C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79E6B4-A7CB-4359-865D-475E3BB3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73A9A9-159B-4426-B6A0-81147636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970C7E-D98D-4D72-A8F0-B7B0CD9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97E5E9-F14A-46C3-B84F-12CA7F08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E4E08-EBB5-43A0-9723-F7908DB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27AD45-FB89-4E99-92F8-F45EC9E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F47A0D-12A4-4683-8886-63B5274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84FFEF-9B14-4802-8EDD-2A50B4A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69C518-0712-4099-8DB2-DCC7A84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239637-09F1-4F3E-920F-59B489A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D7715D-85ED-4F10-9DD5-FE3C5C86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DA4AA3-1F8C-4163-8704-74EDF276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402DF-3890-432F-8A62-2B1E7041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29D0-FF38-4803-8BD4-21AF8D0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8C8B8-5581-4F10-BE72-73E8B2B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9CDA5-30FB-49B2-B7D3-74EE52A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A0C8-E9B0-4A76-AF06-1A1C85B98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C27ED-32A5-4A39-8AB0-E55FDD7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423D2-FC2B-4AA0-9A0A-4C24CD6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2A769-0DF5-4387-BFC7-2AD9F696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DCE43-9273-4132-AAAD-C8F68D05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A9E42-4F2F-45F3-A131-975DE33F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5EC8B-718E-4709-9F9D-C3B778DB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47526-93A5-4BFA-B0A8-0E075C7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90BAB-216A-481E-A4F2-F07CE5A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0FEFE-8D37-47B1-A5C8-15398F6E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EC0D5-C06A-45B0-8722-DC3F206D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8A09-0397-408B-8B0E-48E1C6C1C6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782C9-25BD-4485-8C4B-C056A11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9EEF3-A96C-40B2-9854-3B9F67B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8CB5A-C184-400C-B6B2-CE923602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FCA6F-D6FD-410B-BCD3-9B0B371B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07192-F2FF-4D3B-AEEF-2DA8D419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309AB-6444-488F-9CB0-2D99EB67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B39FF-8BAA-4AB1-900C-BB653296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E4BD0-E5BF-4F57-93F5-08D75E36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ACE49-71EC-4FCA-8772-DC47EB6A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0F6BA-037E-4780-B5E8-EC2E932C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94B1-A617-49EB-ADD6-18C123CEE9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C73BA-D368-498B-BEF0-1443E347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DA879-6C8F-4495-B594-06B9F0B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5C500-68D3-41D7-B467-888D702C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9B3F3-51A2-4050-8325-D09031EA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F4A912-F565-4AF4-8387-D37593A7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29641-B78F-4A1E-9502-DEA0F080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9B1E3-0C39-473B-837B-BF7DE10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F3923-DAB6-484C-98F3-FB30A6DF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98D69-E39B-495D-8D99-5CF62333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37075-7EBB-430B-88EE-11E1006D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AA49-FE95-408E-809A-67B084747D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54824E-8DEF-4321-8BED-7B4B666A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41C8BF-D634-4087-BD3A-E2455465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9A16E9-9C28-4519-B5DC-8B4FA8E0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2E3751-9929-4DEB-A629-FE9AA76D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5D18C-CF23-4385-ADFE-D3ABC02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C952A-516A-4341-87BA-294225A6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CE8E2-692B-4C33-AA3B-A134C41D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0BCCA-AF25-434D-90E8-64045672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96F67-62B2-4A01-BC34-4E887DCE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A0AF7-C949-4387-BCB7-854CC13F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1D8E-015F-4C4D-9DAB-201DD3F979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47728A-1B85-4147-A60A-AD822E8F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A9040-A609-4B66-9518-398D5E9F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5506D-DEA3-445D-B34D-3D9BE5A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CA71E-0347-47EC-A64E-D444EBD9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697241-D4D0-4BF4-827A-9599E94D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BBEDA-9CFF-4ACE-B151-94634BC7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32DF7-1812-4930-BB72-31525028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EE0199-081B-43A3-9282-3376D456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B81DB1-EA7D-413A-B2B0-BB29746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251FE6-6CD9-4E52-A276-7F55EDD8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BF34-7EC3-4B38-9D28-BA4E9A8FD4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F810A-B5C9-45AF-9E7C-6C9B2F08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BC3012-254C-4926-80F5-4EF39A51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B08137-A6F7-4CF1-A5A1-87DE93AC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B73D8D-29FE-4F81-B3AA-DAC6FD29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F6A7B2-4CBB-454D-8A57-110967BB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99B878-69AF-4367-BD29-F5C7149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69419-B562-4DA6-A92D-C9CAD62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D70A72-BFF2-4B0B-87DE-B998A82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92940F-AE1E-4818-94D1-7D68983F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0754F1-7183-4F6F-9C9C-A61FCF16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0745-1F7F-4AE2-A10B-2344D41107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B45DE5-EE38-4208-982C-2DA7227F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B1B59-811D-4B57-8635-EFDC3A17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A93911-F6F2-45C8-B08B-9C4567A0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CAB1C-1430-457A-A999-7942EE5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5BB403-9591-40B2-8F35-6546A48E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26C3A6-A0EA-4D2C-85AA-68FD8BCA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A18FF6-40BD-4BB2-8B1C-027C84D3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7F30FE-BDBA-44FB-AF81-D250AF15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66D7B-52CB-4F19-AFC4-9996D51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E38A5-0086-4AFA-A8F7-2D4FF9C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59CE-C14A-483D-9687-075942C820A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69A8A-B540-4500-83BA-0A383B36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F21D7-2A03-46FB-9199-DC80E29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A95B5-C43F-41D5-9DB2-3FB7B270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287AF0-A8FA-4C70-A517-8DF3320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A68072-B0E9-4010-8E92-ACD6136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8E1FD-10D9-47FD-AB7A-59A80F8F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CBD8D-CE69-43C0-A4F2-EAB5E0FF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3960D-FEA0-4EC6-A97A-F0079653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01F45-2153-4C0F-9968-8DDE824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A3F94-8149-40D9-B420-9797A7B6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A37-3136-45DC-885B-35B75C50508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F9B3-3AD9-47EA-8027-73B429F36EC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pic>
        <p:nvPicPr>
          <p:cNvPr id="422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24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489-DCE1-4F56-9238-A13E5CD17EA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73D3-D272-47AD-9A6E-C35D4D1CFA2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8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8605-1EB9-4D24-A50F-72FD131C4E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C0F-BAB9-4A9C-88D5-D4C107E3AC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99A-F6BA-48B9-9F80-CA5AECBEEB2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BF16-BD8E-4A1F-812F-B4C914DDCED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FC42-EBBA-4E52-98C4-56AB8563A70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0FCF-1CFE-4E58-9F9B-DF7D94D8265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A330-C287-4F93-8458-6B289DCD26B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5DFC-A5C7-4F84-9DAF-9DCCBDFC7D3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62CF-B5F9-4CC8-8151-85999F79A6B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etorica.labhackercd.net/dashboards/556c67d4986c856f65dba114" TargetMode="External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ainelsocial.labhackercd.net/panels/camara-dos-deputados" TargetMode="External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plicativos.gov.br/aplicativos/kosme/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play.google.com/store/apps/details?id=br.com.PartoHumanizado" TargetMode="External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4"/>
          <p:cNvSpPr/>
          <p:nvPr/>
        </p:nvSpPr>
        <p:spPr>
          <a:xfrm>
            <a:off x="36360" y="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Imagem 14" descr="Sem Título-1.png"/>
          <p:cNvPicPr/>
          <p:nvPr/>
        </p:nvPicPr>
        <p:blipFill>
          <a:blip r:embed="rId1"/>
          <a:stretch/>
        </p:blipFill>
        <p:spPr>
          <a:xfrm>
            <a:off x="1227240" y="808200"/>
            <a:ext cx="7559640" cy="52416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26880" y="2420640"/>
            <a:ext cx="75279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Hackathon AN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CaixaDeTexto 1"/>
          <p:cNvSpPr/>
          <p:nvPr/>
        </p:nvSpPr>
        <p:spPr>
          <a:xfrm>
            <a:off x="3132000" y="5589720"/>
            <a:ext cx="41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união – 02/05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od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o que se refere à salvaguarda dos direitos de propriedade intelectual, todos os participantes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edem exclusivamente à Agência Nacional de Saúde Suplementar o código-fonte e o direito de us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os aplicativos desenvolvidos, de forma irrevogá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articipantes deverão apresentar à Comissão Organizadora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Cessão de Direitos Autorai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 também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Licença de Uso de Software/Aplicativ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conforme modelos a serem disponibilizad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rojetos desenvolvidos nesta maratona serão apreciados pela Comissão Avaliadora, que é soberana, e elegerá o(s) projeto(s) vencedor(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s proj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s projetos serão avaliados com base em três critéri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TERESSE PÚBLIC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RIATIVIDADE E INOVAÇÃ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contribuirá para experimentação de abordagens não convencionais para a solução de problema relevante, considerada a sua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distinção entre as soluções alternativas já existente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QUALIDADE TÉCNIC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rá avaliado o quanto o projeto atende aos seguintes parâmetros: a) usabilidade e acessibilidade; b) facilidade para ser compartilhado, copiado, alterado, remixado e executado por outras pessoas; c) estar devidamente documentado na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êm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° colocado: R$ 10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° colocado: R$ 5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° colocado: R$ 2.5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ara o pagamento dos prêmios será aberto um chamamento público para que as instituições interessadas em financiar esse pagamento possam particip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gastos com a realização dos eventos presenciais será da ANS. Os participantes arcarão com despesas de transporte, hospedagem e alimentaçã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hamamento Públ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stituições que poderão participar: Organizações da Sociedade Civil, de acordo com a Lei  n° 13.019/2014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erão selecionadas até 3 instituições através de sorte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mas inicialmente pro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) utilização consciente do plano de saúd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) mobilidade dos dados clínicos do benefici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ROS PODERÃO SER DEFINIDOS PELA COMISSÃO ORGANIZAD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39640" y="1268280"/>
          <a:ext cx="8064720" cy="4886280"/>
        </p:xfrm>
        <a:graphic>
          <a:graphicData uri="http://schemas.openxmlformats.org/drawingml/2006/table">
            <a:tbl>
              <a:tblPr/>
              <a:tblGrid>
                <a:gridCol w="260640"/>
                <a:gridCol w="3827160"/>
                <a:gridCol w="712800"/>
                <a:gridCol w="711360"/>
                <a:gridCol w="712800"/>
                <a:gridCol w="183996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700"/>
                      </a:b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1: Elaboração de Documen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Nota Téc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e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o Hackath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a, Pedr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s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2: Encaminhamentos intern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com GGE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ertura do processo administrativo e encaminhamento para 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Organizadora (portaria no B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3 : Realização 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ficha de inscri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no DO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em jornal de grande circul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a documentação de habilit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e result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e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 resultado dos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teio (se for o cas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natura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 Olivei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84360" y="1341360"/>
          <a:ext cx="7991280" cy="4608720"/>
        </p:xfrm>
        <a:graphic>
          <a:graphicData uri="http://schemas.openxmlformats.org/drawingml/2006/table">
            <a:tbl>
              <a:tblPr/>
              <a:tblGrid>
                <a:gridCol w="257040"/>
                <a:gridCol w="3794040"/>
                <a:gridCol w="704880"/>
                <a:gridCol w="706320"/>
                <a:gridCol w="704880"/>
                <a:gridCol w="1824120"/>
              </a:tblGrid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800"/>
                      </a:b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4 : Organização e divulg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Avaliadora (portaria no DO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ão com as entidades parceiras para definição dos te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, Michelle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ção da infraestrutura dos eventos inicial e final junto à COE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as palestras que ocorrerão no evento ini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elle, Leonardo, Edu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os dados a serem divulgados (além do que já está no sit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essão de Direitos Autorais e do Termo de Licença de Uso do Software/Aplicativ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Pedro, Adr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os Termos pela PRO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o Hackathon no D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Hackath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5 : Realiz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bimento e análise das incrições e documentos anex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e seleção das propos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selecion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de aber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durante Desenvolvimento dos projetos pelos participa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.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final (apresentação dos protótip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produtos e sele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Avali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tórica Parlamentar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na análise e visualização em forma de bolhas dos principais temas presentes nos pronunciamentos dos deputados brasileiros durante o pequeno expediente. Dentro de cada bolha, que corresponde a um tema, é possível verificar quais os deputados o abordaram nos seus discursos. Clicando em um deputado, é possível visualizar mais informações sobre e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inel Social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em um piloto para a visualização de informações legislativas e de redes sociais. O principal público alvo são os órgãos internos da Câmara dos Deputados, tais como Comissões e Lideranç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ítulo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OSME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portuniza a atividade da observação astronômica para ensinar e instigar sobre astronomia. Após observar o céu noturno, o usuário navega pelo mapa apontando o aparelho para os objetos astronômicos que observou para colecioná-los. Com um clique, ele pode adicionar anotações e fotos para documentar sua experiência. Em troca, recebe o sticker equivalente do astro, que pode ser colado dentro de sua respectiva coleção no álbum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Hackathon (Maratona Hacker) ANS: evento que reune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hacker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programadores, desenvolvedores e inventores em geral, com o objetivo de promover o desenvolvimento de projetos que visem ao aumento da transparência na divulgação de informações públicas por meio de tecnologias digitai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rto Humanizado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raz informações sobre violência obstétrica, ajuda a criar um plano de parto e possui um mapa com indicação de doulas e grupos de apoio ao parto, amamentação e maternida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Número de Slide 4"/>
          <p:cNvSpPr/>
          <p:nvPr/>
        </p:nvSpPr>
        <p:spPr>
          <a:xfrm>
            <a:off x="533520" y="6519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3C5-6E33-4427-B099-A4D34337EFA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360" y="1197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OBRIGADO!</a:t>
            </a:r>
            <a:br>
              <a:rPr sz="3200"/>
            </a:br>
            <a:br>
              <a:rPr sz="2800"/>
            </a:b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sultado da Maratona: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soluções mobi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ANS estabelecerá as finalidades desejadas das ferramentas que serão propostas pelos participantes. Podem-se criar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linhas/temas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diferentes a serem escolhidos pelos inscrito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opostas de inscrição individual ou de equipes de, no máximo, 3 (três) componen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ormulário de inscrição:  proposta sucinta de projeto de desenvolvimento de solução </a:t>
            </a:r>
            <a:r>
              <a:rPr b="0" i="1" lang="pt-BR" sz="2600" spc="-1" strike="noStrike">
                <a:solidFill>
                  <a:srgbClr val="000000"/>
                </a:solidFill>
                <a:latin typeface="Calibri"/>
              </a:rPr>
              <a:t>mobile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que utilize, preferencialmente, dados da A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otal de pessoas selecionadas: 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68360" y="1244520"/>
          <a:ext cx="8229600" cy="424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Avali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servidores e colaboradores do órgão, tanto das áreas relacionadas aos temas propostos, quanto das áreas de informação e 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profissionais reconhecidos nas áreas desejadas, além das áreas de transparência e desenvolvimento de aplicações web. É desejável que haja pelo menos 1 representante do órgão e 1 da W3C Brasil (entidade que defende os princípios da Internet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 o regul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ecia os projetos desenvolv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iona as pessoas para participarem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infraestrutura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 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área no Po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ão Organizad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TEG (2 integrante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P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RP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SINF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CO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PL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E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API/GEQ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F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PRO; 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as propos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ritérios a serem utilizados na avaliação das propost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RESSE PÚBLICO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RIATIVIDADE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apresentará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solução inovador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ara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oblema relevant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ados a serem utiliz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ara o desenvolvimento das soluções propostas, deverão ser utilizados, preferencialmente,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dados disponíveis no Portal ANS,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 forma articulada com outros dados, quando necessár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utras bases de dados que os participantes julgarem necessárias poderão ser utiliz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mato do ev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um evento inicial (será transmitido via internet e a presença nele será facultativa) para apresentação dos temas, palestras 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duas semanas para desenvolvimento (o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correrá de forma virtual durante as duas seman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 último dia do evento, todos os projetos deverão ser apresentados na forma de protótipos. Cada apresentação terá duração máxima de 15 minu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Leonardo Fernandes Ferreira</cp:lastModifiedBy>
  <cp:lastPrinted>2015-08-17T20:27:35Z</cp:lastPrinted>
  <dcterms:modified xsi:type="dcterms:W3CDTF">2016-05-18T15:57:00Z</dcterms:modified>
  <cp:revision>427</cp:revision>
  <dc:subject/>
  <dc:title>Slide 1</dc:title>
</cp:coreProperties>
</file>